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4CAB-270E-4167-A50A-F3134E8A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914B-8449-494D-9D02-3C930A50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7F84-2B51-400E-8AAE-3FB37610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65E4-CAD6-4BE7-99E6-3427F497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9CF-C5E2-4602-9E04-85A185A1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6889-4E63-48A3-9F0B-29FC44F5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79B8-FFE1-48E2-8E58-699D3D0F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8A69-7571-4A5D-BA0B-05D963B6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9866-32F3-4EAE-B4D6-1011D602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5776-4AA5-4026-99EF-8BD8912B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C11-4F21-4B82-AD30-109BB794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2596-28B6-4BB6-B981-BB252EEE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769C-EF90-461F-9C98-0FEDDBFC858D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c00000"/>
                </a:solidFill>
                <a:latin typeface="Calibri"/>
              </a:rPr>
              <a:t>El vuelo de las </a:t>
            </a:r>
            <a:br>
              <a:rPr sz="6600"/>
            </a:br>
            <a:r>
              <a:rPr b="0" lang="es-ES" sz="6600" spc="-1" strike="noStrike">
                <a:solidFill>
                  <a:srgbClr val="c00000"/>
                </a:solidFill>
                <a:latin typeface="Calibri"/>
              </a:rPr>
              <a:t>dos hojitas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 Imagen" descr="escanear0001.jpg"/>
          <p:cNvPicPr/>
          <p:nvPr/>
        </p:nvPicPr>
        <p:blipFill>
          <a:blip r:embed="rId1"/>
          <a:stretch/>
        </p:blipFill>
        <p:spPr>
          <a:xfrm>
            <a:off x="0" y="781200"/>
            <a:ext cx="9144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escanear0003.jpg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escanear0004.jpg"/>
          <p:cNvPicPr/>
          <p:nvPr/>
        </p:nvPicPr>
        <p:blipFill>
          <a:blip r:embed="rId1"/>
          <a:stretch/>
        </p:blipFill>
        <p:spPr>
          <a:xfrm>
            <a:off x="0" y="75564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escanear0005.jpg"/>
          <p:cNvPicPr/>
          <p:nvPr/>
        </p:nvPicPr>
        <p:blipFill>
          <a:blip r:embed="rId1"/>
          <a:stretch/>
        </p:blipFill>
        <p:spPr>
          <a:xfrm>
            <a:off x="0" y="415800"/>
            <a:ext cx="914400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escanear0006.jpg"/>
          <p:cNvPicPr/>
          <p:nvPr/>
        </p:nvPicPr>
        <p:blipFill>
          <a:blip r:embed="rId1"/>
          <a:stretch/>
        </p:blipFill>
        <p:spPr>
          <a:xfrm>
            <a:off x="50760" y="0"/>
            <a:ext cx="904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22:47:22Z</dcterms:created>
  <dc:creator>Héctor</dc:creator>
  <dc:description/>
  <dc:language>en-US</dc:language>
  <cp:lastModifiedBy>Héctor</cp:lastModifiedBy>
  <dcterms:modified xsi:type="dcterms:W3CDTF">2011-12-06T22:53:09Z</dcterms:modified>
  <cp:revision>1</cp:revision>
  <dc:subject/>
  <dc:title>El vuelo de las  dos hojitas</dc:title>
</cp:coreProperties>
</file>